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5.png" ContentType="image/png"/>
  <Override PartName="/ppt/media/image8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D388-92F1-4EDA-9D32-A145D52B4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81FF-95DC-4BBB-BBC8-78205DE78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8F0C-B4D0-4636-9F1D-FAC4817BA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7B48-BBD4-4622-881D-C5A35EFF6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54DC-6484-4AE5-B3CB-03EFA3BB1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80C6-36DC-4495-AC05-CF4A6192B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37F3-2249-4C8D-A4E2-C02C0CA01A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5C4A-7CCC-4440-8031-CF3F6D2AE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CBC7-0828-4B81-82F4-BA97DE989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F79A-CA8A-4357-AAB2-774D9A84FE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2567-5FED-4CDB-BDB3-8B85A4CFB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A445-483E-43D4-B39E-0782975D36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7D7-9D30-4B15-A27F-94FDDB2C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3F8-B5EF-49EB-9A11-9CF901DC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7EA-AEF5-4446-99C1-F29152AE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0E5-633C-4BF9-A28D-0D5D5FB1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7F9-2A56-48EA-8C74-BD318059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F82-BFA3-4008-93B3-5C312AAB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934-C44C-4D4E-8E88-D610BD64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BA0-85CD-41A2-BDA5-C3EC4F4D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B6B-1AF6-4B87-8A83-B36889F0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3E2-2E73-485C-A4DE-4051B96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2BD-2033-4A8D-B87D-D0F2DD2E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056-7798-45E2-8CEF-AD588DC5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535D-4336-4288-93CB-61A0C82ED499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Minus 8"/>
          <p:cNvSpPr/>
          <p:nvPr/>
        </p:nvSpPr>
        <p:spPr>
          <a:xfrm>
            <a:off x="1447920" y="685800"/>
            <a:ext cx="8839080" cy="380880"/>
          </a:xfrm>
          <a:prstGeom prst="pie">
            <a:avLst/>
          </a:prstGeom>
          <a:solidFill>
            <a:srgbClr val="0076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5867280"/>
          </a:xfrm>
          <a:prstGeom prst="rect">
            <a:avLst/>
          </a:prstGeom>
          <a:solidFill>
            <a:srgbClr val="0076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ww.makemegenius.c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Full of ingredients to make your child a gen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953360" y="411480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Berlin Sans FB Demi"/>
                <a:ea typeface="MS Mincho"/>
              </a:rPr>
              <a:t>“</a:t>
            </a:r>
            <a:r>
              <a:rPr b="1" i="1" lang="en-US" sz="1800" spc="-1" strike="noStrike">
                <a:solidFill>
                  <a:srgbClr val="ff9900"/>
                </a:solidFill>
                <a:latin typeface="Berlin Sans FB Demi"/>
                <a:ea typeface="MS Mincho"/>
              </a:rPr>
              <a:t>Don’t make me read, make me understand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Make Me Genius Logo (29"/>
          <p:cNvPicPr/>
          <p:nvPr/>
        </p:nvPicPr>
        <p:blipFill>
          <a:blip r:embed="rId1"/>
          <a:stretch/>
        </p:blipFill>
        <p:spPr>
          <a:xfrm>
            <a:off x="1962000" y="1292400"/>
            <a:ext cx="5133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045 -0.34583 C -0.36406 -0.25347 -0.2375 -0.16088 -0.21945 -0.11366 C -0.20139 -0.06667 -0.45729 -0.17454 -0.38229 -0.06227 C -0.30729 0.05 0.16493 0.54537 0.23055 0.55926 C 0.29618 0.57315 0.04965 0.11505 0.01128 0.02199 C -0.02709 -0.07107 -0.01354 -0.03565 -2.77778E-006 0.00023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8524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big differences between inhaled and exhaled ai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ould you test for th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other difference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394920" y="1905120"/>
            <a:ext cx="3491280" cy="3690360"/>
            <a:chOff x="394920" y="1905120"/>
            <a:chExt cx="3491280" cy="3690360"/>
          </a:xfrm>
        </p:grpSpPr>
        <p:sp>
          <p:nvSpPr>
            <p:cNvPr id="90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"/>
            <p:cNvSpPr/>
            <p:nvPr/>
          </p:nvSpPr>
          <p:spPr>
            <a:xfrm>
              <a:off x="394920" y="4038480"/>
              <a:ext cx="3053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trogen (78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xygen (20.7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bon Dioxide (0.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4813560" y="1905120"/>
            <a:ext cx="3187440" cy="3690360"/>
            <a:chOff x="4813560" y="1905120"/>
            <a:chExt cx="3187440" cy="3690360"/>
          </a:xfrm>
        </p:grpSpPr>
        <p:sp>
          <p:nvSpPr>
            <p:cNvPr id="98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4813560" y="4038480"/>
              <a:ext cx="2824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trogen (75.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xygen (14.6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bon Dioxide (4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00000"/>
                </a:solidFill>
                <a:latin typeface="Arial Rounded MT Bold"/>
              </a:rPr>
              <a:t>Lets take a closer look (av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spiratory systemmp4.AVI" descr=""/>
          <p:cNvPicPr/>
          <p:nvPr/>
        </p:nvPicPr>
        <p:blipFill>
          <a:blip r:embed="rId1"/>
          <a:stretch/>
        </p:blipFill>
        <p:spPr>
          <a:xfrm>
            <a:off x="1116000" y="1644480"/>
            <a:ext cx="64072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ckup of as wmv fi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598760"/>
            <a:ext cx="62643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abies_The_end_prv"/>
          <p:cNvPicPr/>
          <p:nvPr/>
        </p:nvPicPr>
        <p:blipFill>
          <a:blip r:embed="rId1"/>
          <a:stretch/>
        </p:blipFill>
        <p:spPr>
          <a:xfrm>
            <a:off x="200160" y="1000080"/>
            <a:ext cx="6657840" cy="5477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3317760" y="76320"/>
            <a:ext cx="206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6581520" y="1143000"/>
            <a:ext cx="2261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Submitt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Harshit Pand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St. john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76040" y="2550960"/>
            <a:ext cx="879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If you also want to share your own or your kid’s presentation(ppt) please send it on </a:t>
            </a:r>
            <a:r>
              <a:rPr b="1" lang="en-US" sz="3600" spc="-1" strike="noStrike">
                <a:solidFill>
                  <a:srgbClr val="0070c0"/>
                </a:solidFill>
                <a:latin typeface="Arial Black"/>
              </a:rPr>
              <a:t>info@makemegenius.com</a:t>
            </a: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76040" y="2550960"/>
            <a:ext cx="879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If you also want to share your own or your kid’s presentation(ppt) please send it on </a:t>
            </a:r>
            <a:r>
              <a:rPr b="1" lang="en-US" sz="3600" spc="-1" strike="noStrike">
                <a:solidFill>
                  <a:srgbClr val="0070c0"/>
                </a:solidFill>
                <a:latin typeface="Arial Black"/>
              </a:rPr>
              <a:t>info@makemegenius.com</a:t>
            </a: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gency FB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0" y="0"/>
            <a:ext cx="9144000" cy="5867280"/>
          </a:xfrm>
          <a:prstGeom prst="rect">
            <a:avLst/>
          </a:prstGeom>
          <a:solidFill>
            <a:srgbClr val="0076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ww.makemegenius.c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Full of ingredients to make your child a gen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953360" y="411480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Berlin Sans FB Demi"/>
                <a:ea typeface="MS Mincho"/>
              </a:rPr>
              <a:t>“</a:t>
            </a:r>
            <a:r>
              <a:rPr b="1" i="1" lang="en-US" sz="1800" spc="-1" strike="noStrike">
                <a:solidFill>
                  <a:srgbClr val="ff9900"/>
                </a:solidFill>
                <a:latin typeface="Berlin Sans FB Demi"/>
                <a:ea typeface="MS Mincho"/>
              </a:rPr>
              <a:t>Don’t make me read, make me understand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Make Me Genius Logo (29"/>
          <p:cNvPicPr/>
          <p:nvPr/>
        </p:nvPicPr>
        <p:blipFill>
          <a:blip r:embed="rId1"/>
          <a:stretch/>
        </p:blipFill>
        <p:spPr>
          <a:xfrm>
            <a:off x="1962000" y="1292400"/>
            <a:ext cx="5133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045 -0.34583 C -0.36406 -0.25347 -0.2375 -0.16088 -0.21945 -0.11366 C -0.20139 -0.06667 -0.45729 -0.17454 -0.38229 -0.06227 C -0.30729 0.05 0.16493 0.54537 0.23055 0.55926 C 0.29618 0.57315 0.04965 0.11505 0.01128 0.02199 C -0.02709 -0.07107 -0.01354 -0.03565 -2.77778E-006 0.00023 E">
                                      <p:cBhvr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 Rounded MT Bold"/>
              </a:rPr>
              <a:t>Being Heal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 Rounded MT Bold"/>
              </a:rPr>
              <a:t>The Respiratory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 exchange happens in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2 lungs, situated in your upper thorax /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 Rounded MT Bold"/>
              </a:rPr>
              <a:t>How do we breath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th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pipe/trachea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oles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oli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ShockwaveFlash1"/>
          <p:cNvGraphicFramePr/>
          <p:nvPr/>
        </p:nvGraphicFramePr>
        <p:xfrm>
          <a:off x="395280" y="907920"/>
          <a:ext cx="7389720" cy="518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7389720" cy="5185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ShockwaveFlash1"/>
          <p:cNvGraphicFramePr/>
          <p:nvPr/>
        </p:nvGraphicFramePr>
        <p:xfrm>
          <a:off x="914400" y="1143000"/>
          <a:ext cx="7315200" cy="48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487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Arial Rounded MT Bold"/>
              </a:rPr>
              <a:t>Exchanging g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lungs"/>
          <p:cNvPicPr/>
          <p:nvPr/>
        </p:nvPicPr>
        <p:blipFill>
          <a:blip r:embed="rId1"/>
          <a:stretch/>
        </p:blipFill>
        <p:spPr>
          <a:xfrm>
            <a:off x="179280" y="1143000"/>
            <a:ext cx="4337280" cy="460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143000"/>
            <a:ext cx="4464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914400" y="564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utside of the alveoli is covered with tiny blood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80880" y="9288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se alveoli is called the ALVEOL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where the oxygen is transferred into the blood and carbon dioxide moves out of the bl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380880" y="2362320"/>
            <a:ext cx="243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2819520" y="1905120"/>
          <a:ext cx="6324480" cy="39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6324480" cy="3900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sonal.krishna</cp:lastModifiedBy>
  <dcterms:modified xsi:type="dcterms:W3CDTF">2010-12-27T16:17:10Z</dcterms:modified>
  <cp:revision>10</cp:revision>
  <dc:subject/>
  <dc:title>Being Healthy- Breathing and the lungs</dc:title>
</cp:coreProperties>
</file>